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9BC-06FB-4303-98EC-4A54A71D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2D7-51D1-4474-BED0-6CA57FE1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C24-F778-4E70-942F-4F9244EC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95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052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95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052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D05-A2F7-40D0-A369-EFE8435C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0FAB-D4AC-4A03-A545-68421367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A26E-5A24-4279-B801-4CBE02A2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F1DC-95CF-4137-9BEF-055B5DA6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7AD9-0954-4B0D-8005-5211C54F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CA29-673F-42B3-A1C0-098E0270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28872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27CF-9BFF-4E42-96E0-CF5A5DD8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D1BD-D4BD-4A21-8BCD-66DCF74E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261-2A95-4929-8A13-13935A36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6A40-C457-453F-B0F8-6BAF3BFE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8302-772B-4AA9-92B1-B5F6728F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5094-4EF8-46FD-B0E2-57F4A094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1A52-396C-4F83-9308-CDAC7292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6956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0520" y="8377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6956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0520" y="35841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C23C-AEB8-4460-B5C6-ACD219D2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ACF-FA93-4E96-BC29-1005DA16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E0D-7A06-46AC-A7AE-80C72363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955-0FAD-424E-B671-009E8F6B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88720"/>
            <a:ext cx="7543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9AA-377A-4CD7-A92A-6151443B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0DD-C007-4616-A42D-2BCA12A1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4640" y="35841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1C4-58EF-446D-9AFC-E8E7E7A4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4640" y="8377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5841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1CA-E49D-4FB8-8835-32E6B21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A51F-98A8-4623-8E20-B3150495C1B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6BE9-6F2C-43D3-86E8-3A53083C33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pagliaro@seymourschools.org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Tahoma"/>
              </a:rPr>
              <a:t>Rome Review</a:t>
            </a:r>
            <a:endParaRPr b="1" lang="en-US" sz="54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art 1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867280" y="4952880"/>
            <a:ext cx="29718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r. Paglia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ymour High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cpagliaro@seymourschools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Copyright 2007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The Beginnings of Rome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gendary Histo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eneas-Trojan War Hero-landed in Italy; had 2 sons: Romulus &amp; Remu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omulus founded Rome in 753 BC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Founding of Rom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eneas’ twin sons wanted to found a ci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ght over position: Romulus killed Remu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mulus made Palantine Hill center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truscans conquered Rome c. 660s BC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mans overthrew monarch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st king: Tarquin the Grea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med a republic: rule by elected leader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Rome’s Geographic Location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lls &amp; Riv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in of Latium among 7 hill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ve at top, farm at bottom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Good climate: farm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fendable posi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ber Riv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lose to Mediterranea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ided trad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land position=protectio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1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Rome’s Geographic Location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alian Peninsul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ided trade &amp; expansion via se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ps &amp; Apennine Mts. = protec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d not isolate Rom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lains: easier farming than Greec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ltural Influences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rth: Etruscan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outh: Greek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Lives of early Romans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ing the la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rms: small plots, grew grains, lentil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ndowners served in arm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ffects in society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ome farmers grew rich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uilt estat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ap between rich &amp; poor (Patricians &amp; Plebeians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Qualities from societ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yalty, discipline, hard wor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Lesson Summary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gend and fact shaped Rome’s early histo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ome’s geography encouraged growth of its civiliz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oman society benefited from the effort and discipline of Roman farm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Why it matters now…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re are still many cultural connections among Mediterranean areas of Europe, Asia, and Africa due to Rome’s influen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887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Tahoma"/>
              </a:rPr>
              <a:t>Progress Monitoring</a:t>
            </a:r>
            <a:endParaRPr b="1" lang="en-US" sz="3200" spc="-1" strike="noStrike">
              <a:solidFill>
                <a:srgbClr val="dfd293"/>
              </a:solidFill>
              <a:latin typeface="Tahoma"/>
            </a:endParaRPr>
          </a:p>
        </p:txBody>
      </p:sp>
      <p:pic>
        <p:nvPicPr>
          <p:cNvPr id="98" name="Picture 4" descr="rome_christian_pmt19"/>
          <p:cNvPicPr/>
          <p:nvPr/>
        </p:nvPicPr>
        <p:blipFill>
          <a:blip r:embed="rId1"/>
          <a:stretch/>
        </p:blipFill>
        <p:spPr>
          <a:xfrm>
            <a:off x="1295280" y="838080"/>
            <a:ext cx="7643880" cy="5604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0" y="5791320"/>
            <a:ext cx="3581280" cy="916920"/>
          </a:xfrm>
          <a:prstGeom prst="rect">
            <a:avLst/>
          </a:prstGeom>
          <a:solidFill>
            <a:srgbClr val="dfd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7960"/>
                </a:solidFill>
                <a:latin typeface="Tahoma"/>
              </a:rPr>
              <a:t>Email responses to cpagliaro@seymourschools.org (subject: rome 1 ma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5:34:52Z</dcterms:created>
  <dc:creator>cpagliaro</dc:creator>
  <dc:description/>
  <cp:keywords/>
  <dc:language>en-US</dc:language>
  <cp:lastModifiedBy>cpagliaro</cp:lastModifiedBy>
  <dcterms:modified xsi:type="dcterms:W3CDTF">2010-12-20T13:39:37Z</dcterms:modified>
  <cp:revision>2</cp:revision>
  <dc:subject/>
  <dc:title>Rome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51033</vt:lpwstr>
  </property>
</Properties>
</file>